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D1D3-1542-47A0-B719-8F7986082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5018-0105-4AB3-AAC1-5B6F1040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E331-218D-42C2-ACD9-76F5A7F10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8C2D-06D3-46E9-AF73-EF0FDB549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D213-819F-4602-8EC0-72A4143B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7712-1BB7-4165-AD27-B1D1479B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AD98-7491-447E-A109-0619074F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1FA2-A303-4B79-9A54-BDCD327C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A109-10AF-446A-BDCA-FB43D15F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859A-225F-4271-9A8D-A4BC6331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FEEC-E76C-4DC2-974F-9613A36A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825F-C7CB-4971-B652-D1EF90D3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1437-707A-4BCE-A85F-F8F677B351D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7680" y="593640"/>
            <a:ext cx="9493200" cy="11354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62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汚染場所に関係者以外の人が近づかないようにします。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処理する時は、換気を十分に行ってくださ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処理を始める前に、使い捨て手袋とマスク、エプロンなどを着用してくださ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3" descr="処理中の写真"/>
          <p:cNvPicPr/>
          <p:nvPr/>
        </p:nvPicPr>
        <p:blipFill>
          <a:blip r:embed="rId1"/>
          <a:stretch/>
        </p:blipFill>
        <p:spPr>
          <a:xfrm>
            <a:off x="914400" y="2743200"/>
            <a:ext cx="2076480" cy="1324080"/>
          </a:xfrm>
          <a:prstGeom prst="rect">
            <a:avLst/>
          </a:prstGeom>
          <a:ln w="0">
            <a:noFill/>
          </a:ln>
        </p:spPr>
      </p:pic>
      <p:pic>
        <p:nvPicPr>
          <p:cNvPr id="43" name="4" descr="処理中の写真"/>
          <p:cNvPicPr/>
          <p:nvPr/>
        </p:nvPicPr>
        <p:blipFill>
          <a:blip r:embed="rId2"/>
          <a:stretch/>
        </p:blipFill>
        <p:spPr>
          <a:xfrm>
            <a:off x="4572000" y="2743200"/>
            <a:ext cx="1676520" cy="1300320"/>
          </a:xfrm>
          <a:prstGeom prst="rect">
            <a:avLst/>
          </a:prstGeom>
          <a:ln w="0">
            <a:noFill/>
          </a:ln>
        </p:spPr>
      </p:pic>
      <p:pic>
        <p:nvPicPr>
          <p:cNvPr id="44" name="5" descr="処理中の写真"/>
          <p:cNvPicPr/>
          <p:nvPr/>
        </p:nvPicPr>
        <p:blipFill>
          <a:blip r:embed="rId3"/>
          <a:stretch/>
        </p:blipFill>
        <p:spPr>
          <a:xfrm>
            <a:off x="6858000" y="2743200"/>
            <a:ext cx="1752480" cy="1309680"/>
          </a:xfrm>
          <a:prstGeom prst="rect">
            <a:avLst/>
          </a:prstGeom>
          <a:ln w="0">
            <a:noFill/>
          </a:ln>
        </p:spPr>
      </p:pic>
      <p:pic>
        <p:nvPicPr>
          <p:cNvPr id="45" name="7" descr="処理中の写真"/>
          <p:cNvPicPr/>
          <p:nvPr/>
        </p:nvPicPr>
        <p:blipFill>
          <a:blip r:embed="rId4"/>
          <a:stretch/>
        </p:blipFill>
        <p:spPr>
          <a:xfrm>
            <a:off x="6705720" y="5105520"/>
            <a:ext cx="1981080" cy="1325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47680" y="182880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おう吐物をペーパータオル等で、</a:t>
            </a:r>
            <a:r>
              <a:rPr b="1" lang="ja-JP" sz="1800" spc="-1" strike="noStrike">
                <a:solidFill>
                  <a:srgbClr val="ff00ff"/>
                </a:solidFill>
                <a:latin typeface="ＭＳ Ｐゴシック"/>
              </a:rPr>
              <a:t>外側から内側に向けて、静かにふき取ります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3760" y="1828800"/>
            <a:ext cx="602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ふき取りに使ったペーパータオル等は、ビニール袋に入れ、汚染物が十分に浸る量の次亜塩素酸ナトリウム（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0.1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％）を加え、</a:t>
            </a:r>
            <a:r>
              <a:rPr b="1" lang="ja-JP" sz="1800" spc="-1" strike="noStrike">
                <a:solidFill>
                  <a:srgbClr val="ff00ff"/>
                </a:solidFill>
                <a:latin typeface="ＭＳ Ｐゴシック"/>
              </a:rPr>
              <a:t>袋の口をしばり密閉します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2360" y="4191120"/>
            <a:ext cx="520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おう吐物をふき取った場所は、次亜塩素酸ナトリウム（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0.1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％）をしみこませたペーパータオル等で</a:t>
            </a:r>
            <a:r>
              <a:rPr b="1" lang="ja-JP" sz="1800" spc="-1" strike="noStrike">
                <a:solidFill>
                  <a:srgbClr val="ff00ff"/>
                </a:solidFill>
                <a:latin typeface="ＭＳ Ｐゴシック"/>
              </a:rPr>
              <a:t>浸すように床をふき取ります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10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分程度放置後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水拭きをし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4191120"/>
            <a:ext cx="40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④</a:t>
            </a:r>
            <a:r>
              <a:rPr b="1" lang="ja-JP" sz="1800" spc="-1" strike="noStrike">
                <a:solidFill>
                  <a:srgbClr val="ff00ff"/>
                </a:solidFill>
                <a:latin typeface="ＭＳ Ｐゴシック"/>
              </a:rPr>
              <a:t>汚染物と消毒に使用したもののすべて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を別のビニール袋に入れ、袋の口をしばり廃棄し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276720" y="4829040"/>
            <a:ext cx="1981080" cy="1339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57440" y="-4680"/>
            <a:ext cx="474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3333cc"/>
                </a:solidFill>
                <a:latin typeface="Times New Roman"/>
                <a:ea typeface="HGP創英角ｺﾞｼｯｸUB"/>
              </a:rPr>
              <a:t>☆</a:t>
            </a:r>
            <a:r>
              <a:rPr b="1" lang="ja-JP" sz="3200" spc="-1" strike="noStrike">
                <a:solidFill>
                  <a:srgbClr val="3333cc"/>
                </a:solidFill>
                <a:latin typeface="Times New Roman"/>
                <a:ea typeface="HGP創英角ｺﾞｼｯｸUB"/>
              </a:rPr>
              <a:t>おう吐物の処理方法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6219720"/>
            <a:ext cx="6324480" cy="6098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処理したあとは、しっかりと手洗い、うがいをしましょう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00:33:07Z</dcterms:created>
  <dc:creator>株式会社エバルス</dc:creator>
  <dc:description/>
  <dc:language>en-US</dc:language>
  <cp:lastModifiedBy>株式会社エバルス</cp:lastModifiedBy>
  <dcterms:modified xsi:type="dcterms:W3CDTF">2010-01-25T04:37:24Z</dcterms:modified>
  <cp:revision>4</cp:revision>
  <dc:subject/>
  <dc:title>PowerPoint プレゼンテーション</dc:title>
</cp:coreProperties>
</file>